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F3A8E-639A-40A3-8C3F-1F978965A2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D610E-7C0F-4651-B20A-78F1A1C898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7B691-C4AB-48DC-AFB9-ED899C64F2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E78C4-66D1-4A83-B950-9A59D95CB7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4D30E-D1C4-4757-9929-81E035F849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D5793-3105-42AC-B674-BCE224E55A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85F00-28FD-4ED2-AFF8-AD37005F7F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BB01B-A2A0-4CA4-9D7A-227979B952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DBA50-D036-40E5-9686-4A0B7FD60B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1FA78-E533-4181-BCC8-C835372DDA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8244A-ADB3-41EC-A9CE-2C58B22181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0F9DDB-EF20-4E20-965F-0941C8908B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456282-72A3-45AA-810C-CB619919AA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6156CD-143E-4A9F-B56E-CB7AA057E2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6F710C-EC1E-4830-93DE-154F82ECF4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ED7282-97F9-451D-9F02-AF55CC759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D98FB6-21F5-43A3-96FF-84350086A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065F2A-578B-4452-88BB-01B3A220D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A3BF3A-5BA5-4D8B-B0BF-713F85C6F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9106A8-2864-4276-9B59-E2173A9C6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5315BB-082A-4BF8-88F1-7EFD307BF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544BD1-E67E-4849-958B-8B2AC26BF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08C87E-1D8C-47BB-8A34-50B51CBEED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31804B-F968-426E-800B-96506054D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B7C24B-1074-4096-BF3D-C419987E4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DABAA8-301A-42A1-B4D9-0A91881D7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59A283-D237-409F-91C6-CDBE23DA3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882C41-9361-4C12-9068-FDAFB0B8B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17BF65-853B-44EB-B620-885790A39C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3BEE58-D500-4452-80BF-33F223A661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7639E-8B3F-40DB-A1F7-FDBA32A58F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2DA230-31E1-492E-93C5-9B88A3B4D1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966A23-C611-44B1-9F21-55D5EC7867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8E409C-10EB-4162-A81C-961AF2934D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96CA9F-4602-4EE4-A1E6-3F153B3FCA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hat et gestion de stock - 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E8F0B-B867-46AC-B686-66E21CAF0A0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hat et gestion de stock - 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89C1A-F29D-4B61-826F-2E43966ADE8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Espace réservé du pied de page 1"/>
          <p:cNvSpPr/>
          <p:nvPr/>
        </p:nvSpPr>
        <p:spPr>
          <a:xfrm>
            <a:off x="45720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hat et gestion de stock - 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3ED82-5603-498A-BE85-977B7D3EC2A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7d"/>
                </a:solidFill>
                <a:latin typeface="Verdana"/>
              </a:rPr>
              <a:t>Étude de cas: Impact de l’absence de programme de gestion de st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532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Scénario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n laboratoire de référence a demandé urgemment des réactifs, principalement liés à des maladies diarrhéiques. Les réactifs demandés ont été envoyé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Résultats d’une évaluation externe du Laborato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endant la mission de suivi du programme, la “pièce de stockage” a été visitée. Face à l’énorme stock observé, un inventaire a été conduit pendant la miss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Espace réservé du pied de page 1"/>
          <p:cNvSpPr/>
          <p:nvPr/>
        </p:nvSpPr>
        <p:spPr>
          <a:xfrm>
            <a:off x="45720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hat et gestion de stock - 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DA0CF-10F2-4948-89B2-6A6D1D26166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7d"/>
                </a:solidFill>
                <a:latin typeface="Verdana"/>
              </a:rPr>
              <a:t>Étude de cas: Impact de l’absence de programme de gestion de st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53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Résultat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Un inventaire n’avait pas été fait depuis des anné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Personne ne savait ce qui était disponi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Les réactifs demandés en urgence étaient présents, la moitié d’entre eux étaient toujours utilisables, l’autre moitié était périmé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Résultat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Augmentation des coûts des réactifs, le temps passé par le laboratoire pour contacter des donneurs, temps passé par les donneurs pour commander les réactif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Perte d’argent et de temps, 3 semaines de délai/retard, pendant ce temps analyses stoppées dans le pay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Espace réservé du pied de page 1"/>
          <p:cNvSpPr/>
          <p:nvPr/>
        </p:nvSpPr>
        <p:spPr>
          <a:xfrm>
            <a:off x="45720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hat et gestion de stock - 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E29C9-90F2-4540-94BE-D20BB5531A4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Object 2"/>
          <p:cNvGraphicFramePr/>
          <p:nvPr/>
        </p:nvGraphicFramePr>
        <p:xfrm>
          <a:off x="5118120" y="1758960"/>
          <a:ext cx="4025880" cy="45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8120" y="1758960"/>
                    <a:ext cx="4025880" cy="45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4" name="Group 3"/>
          <p:cNvGrpSpPr/>
          <p:nvPr/>
        </p:nvGrpSpPr>
        <p:grpSpPr>
          <a:xfrm>
            <a:off x="152280" y="533520"/>
            <a:ext cx="8842320" cy="5905440"/>
            <a:chOff x="152280" y="533520"/>
            <a:chExt cx="8842320" cy="5905440"/>
          </a:xfrm>
        </p:grpSpPr>
        <p:pic>
          <p:nvPicPr>
            <p:cNvPr id="125" name="Picture 4" descr=""/>
            <p:cNvPicPr/>
            <p:nvPr/>
          </p:nvPicPr>
          <p:blipFill>
            <a:blip r:embed="rId3"/>
            <a:stretch/>
          </p:blipFill>
          <p:spPr>
            <a:xfrm>
              <a:off x="152280" y="533520"/>
              <a:ext cx="8842320" cy="577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Rectangle 5"/>
            <p:cNvSpPr/>
            <p:nvPr/>
          </p:nvSpPr>
          <p:spPr>
            <a:xfrm>
              <a:off x="8381880" y="6286680"/>
              <a:ext cx="53352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6"/>
            <p:cNvSpPr/>
            <p:nvPr/>
          </p:nvSpPr>
          <p:spPr>
            <a:xfrm>
              <a:off x="8153280" y="6299280"/>
              <a:ext cx="81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Text Box 7"/>
          <p:cNvSpPr/>
          <p:nvPr/>
        </p:nvSpPr>
        <p:spPr>
          <a:xfrm>
            <a:off x="152280" y="25909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8"/>
          <p:cNvSpPr/>
          <p:nvPr/>
        </p:nvSpPr>
        <p:spPr>
          <a:xfrm>
            <a:off x="152280" y="28954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152280" y="33526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0"/>
          <p:cNvSpPr/>
          <p:nvPr/>
        </p:nvSpPr>
        <p:spPr>
          <a:xfrm>
            <a:off x="152280" y="32767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2"/>
          <p:cNvSpPr/>
          <p:nvPr/>
        </p:nvSpPr>
        <p:spPr>
          <a:xfrm>
            <a:off x="152280" y="35812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3"/>
          <p:cNvSpPr/>
          <p:nvPr/>
        </p:nvSpPr>
        <p:spPr>
          <a:xfrm>
            <a:off x="152280" y="39625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4"/>
          <p:cNvSpPr/>
          <p:nvPr/>
        </p:nvSpPr>
        <p:spPr>
          <a:xfrm>
            <a:off x="152280" y="42670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5"/>
          <p:cNvSpPr/>
          <p:nvPr/>
        </p:nvSpPr>
        <p:spPr>
          <a:xfrm>
            <a:off x="152280" y="4648320"/>
            <a:ext cx="1067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6"/>
          <p:cNvSpPr/>
          <p:nvPr/>
        </p:nvSpPr>
        <p:spPr>
          <a:xfrm>
            <a:off x="152280" y="49528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7"/>
          <p:cNvSpPr/>
          <p:nvPr/>
        </p:nvSpPr>
        <p:spPr>
          <a:xfrm>
            <a:off x="152280" y="53341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8"/>
          <p:cNvSpPr/>
          <p:nvPr/>
        </p:nvSpPr>
        <p:spPr>
          <a:xfrm>
            <a:off x="152280" y="56386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9"/>
          <p:cNvSpPr/>
          <p:nvPr/>
        </p:nvSpPr>
        <p:spPr>
          <a:xfrm>
            <a:off x="152280" y="3200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20"/>
          <p:cNvSpPr/>
          <p:nvPr/>
        </p:nvSpPr>
        <p:spPr>
          <a:xfrm flipH="1">
            <a:off x="228240" y="38862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21"/>
          <p:cNvSpPr/>
          <p:nvPr/>
        </p:nvSpPr>
        <p:spPr>
          <a:xfrm flipH="1">
            <a:off x="151920" y="45720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22"/>
          <p:cNvSpPr/>
          <p:nvPr/>
        </p:nvSpPr>
        <p:spPr>
          <a:xfrm flipH="1">
            <a:off x="228240" y="52578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23"/>
          <p:cNvSpPr/>
          <p:nvPr/>
        </p:nvSpPr>
        <p:spPr>
          <a:xfrm flipH="1">
            <a:off x="151920" y="594360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24"/>
          <p:cNvSpPr/>
          <p:nvPr/>
        </p:nvSpPr>
        <p:spPr>
          <a:xfrm>
            <a:off x="1295280" y="2514600"/>
            <a:ext cx="0" cy="3809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25"/>
          <p:cNvSpPr/>
          <p:nvPr/>
        </p:nvSpPr>
        <p:spPr>
          <a:xfrm>
            <a:off x="838080" y="1295280"/>
            <a:ext cx="12193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Espace réservé du pied de page 1"/>
          <p:cNvSpPr/>
          <p:nvPr/>
        </p:nvSpPr>
        <p:spPr>
          <a:xfrm>
            <a:off x="45720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hat et gestion de stock - 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9A77A-3476-400D-B6B9-3221110353B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2" descr=""/>
          <p:cNvPicPr/>
          <p:nvPr/>
        </p:nvPicPr>
        <p:blipFill>
          <a:blip r:embed="rId1"/>
          <a:stretch/>
        </p:blipFill>
        <p:spPr>
          <a:xfrm>
            <a:off x="187200" y="990720"/>
            <a:ext cx="8823600" cy="471492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3"/>
          <p:cNvSpPr/>
          <p:nvPr/>
        </p:nvSpPr>
        <p:spPr>
          <a:xfrm>
            <a:off x="8305920" y="6381720"/>
            <a:ext cx="533160" cy="247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914400" y="1295280"/>
            <a:ext cx="13716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Espace réservé du pied de page 1"/>
          <p:cNvSpPr/>
          <p:nvPr/>
        </p:nvSpPr>
        <p:spPr>
          <a:xfrm>
            <a:off x="45720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hat et gestion de stock - 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D675F-3B18-4B54-BD17-949F06455AF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51520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90360" y="3580920"/>
            <a:ext cx="7086600" cy="1752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Verdana"/>
              </a:rPr>
              <a:t>Exemple d’un programme spécialisé :SoftLab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20:57:34Z</dcterms:created>
  <dc:creator>Robin Barteluk</dc:creator>
  <dc:description/>
  <dc:language>en-US</dc:language>
  <cp:lastModifiedBy>dolmazonv</cp:lastModifiedBy>
  <dcterms:modified xsi:type="dcterms:W3CDTF">2010-04-08T14:12:46Z</dcterms:modified>
  <cp:revision>13</cp:revision>
  <dc:subject/>
  <dc:title>Discussion: The Problem</dc:title>
</cp:coreProperties>
</file>